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3B8D-D87D-44EE-8449-1E610D3CB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4C12-D7E0-4162-A3B5-83E35B74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6F49-7307-49AF-A5AA-0245BA062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7D0C-2655-4F4F-8B7F-FF03CAA1F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47F9-22FD-4B26-A63A-266E8C5A0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FBD9-DCF2-4334-A853-69A70926C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EC95-E1F5-4552-B3C2-757473B9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EB98-7C02-460D-9C1A-EDBA991E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2C9-CF6D-435B-A147-648BFBA4D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EF7A-E594-4A12-8810-DA4E8D455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6B4A-5F58-4BAF-B285-21384FAE0E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E28E-EF57-494B-A90A-29B48DDE7D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BB81-EA34-48F8-9D11-64BB4DA627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0BC9-E082-4AD8-998A-66293F3C2D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274A-D8C5-4965-816D-759DA87B39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69EE-366E-469C-9282-E51F123B37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8166-0E12-488F-9BFC-2DC4C60C9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AD2F-2D4B-462A-A683-9A5E9159B9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DDAA-4D0F-4AF7-B168-8C6E118E2F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216F-D521-4AAF-A37C-3378DBDBC0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A0F4-CD66-4FC4-91A9-8A3619157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A28F-B635-4AB2-AD5F-CD80EA307F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78399-4AC3-45D4-803D-559A44087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B0F53-62EB-4190-A12A-CF4C28135C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D96A0-0760-41F9-AD22-F91E991093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05CCF-BB00-4CD2-8A9E-3EA58C85611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FEB6A-C163-433E-B37C-5E59E922E0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562C2-1B12-4ABB-977C-B700B7D418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05B3A-CE48-48D5-BF77-F6859E0508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DDB9A-58B1-471F-878C-17CED05085E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99F59-6429-42F3-9A8A-9CEC7CA78C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D002E-9D6E-4A24-9BE5-3B3D1ADEE2E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F7FDC-2354-4422-90B7-EAB9FEC40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13F33-2E52-407B-997B-F539CC01409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5FF32-B725-4A0F-B239-38E24FCED8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07994-F42D-42F1-A006-07209F46A0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8B689-FA9E-478E-B91B-481A13BF1B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0E0BE-A9C7-4C27-90C7-88476DD117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E8417-3571-4DB2-B3AD-BF8E36E6A6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6494D-9CB5-49CE-A730-493A528C66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62810-4B5C-4760-AE68-096750D5DF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B701C-1B46-456E-A718-BF207142F4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6744A-41FA-48EF-9AAE-548F5086D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95DD5-2296-4DC9-8A66-E0E54072EB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F62EF-31D1-4A74-9965-53F192816A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25ABB-3B38-482E-B485-960D725BA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F7B9A860-4162-41C8-A85F-B3DB35CE044A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A7D0EED-C744-44DD-87CA-259A16CAABD3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72A446B-13DA-48A3-BFE9-D2938EF89A8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C3CD5E1-57C0-481A-8687-EAD5C653F36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CEEFC6A-3783-413F-AE41-562B47D7DB0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Digital Communication Tool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icrosoft Word &amp; Ribbon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Word:  is a word processing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reate and edit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feature:  Rib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:  Word’s commands along top of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4019AE2A-B8A2-4352-9E08-4F1360626714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icrosoft Wor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8BF309EB-3E41-4E37-A630-73E2A471F7C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550800" y="1730520"/>
            <a:ext cx="82598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d’s Ribb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90720" y="1599840"/>
            <a:ext cx="769608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 (across top) has different groups of commands (on bott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69960" y="2692440"/>
            <a:ext cx="8126280" cy="183348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DA41A7D8-504A-4D60-94D2-060FAD22DB0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ight Brace 1"/>
          <p:cNvSpPr/>
          <p:nvPr/>
        </p:nvSpPr>
        <p:spPr>
          <a:xfrm rot="5400000">
            <a:off x="4127040" y="955440"/>
            <a:ext cx="743040" cy="7140600"/>
          </a:xfrm>
          <a:custGeom>
            <a:avLst/>
            <a:gdLst>
              <a:gd name="textAreaLeft" fmla="*/ 0 w 743040"/>
              <a:gd name="textAreaRight" fmla="*/ 268200 w 743040"/>
              <a:gd name="textAreaTop" fmla="*/ 103680 h 7140600"/>
              <a:gd name="textAreaBottom" fmla="*/ 7036920 h 714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928800" y="5091120"/>
            <a:ext cx="78674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d      Italic      Underline      Font      Font Size      Alignment     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ing      Styles      Change Styles (Word 2010)      Font Col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     Copy      Paste      Save      Undo      R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d’s Ribb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ting:  the application of design elements to a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nhance your document to make it more appealing, eye catching, and easier to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45D55DD4-63F4-44B2-B9C7-963D85E17C0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Quick Format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41440" y="161604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Change Sty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o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yl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hoo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00E8050E-2F46-43A8-B8C5-8FAE383AD7E7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2206800" y="3430440"/>
            <a:ext cx="4832280" cy="2833920"/>
            <a:chOff x="2206800" y="3430440"/>
            <a:chExt cx="4832280" cy="2833920"/>
          </a:xfrm>
        </p:grpSpPr>
        <p:grpSp>
          <p:nvGrpSpPr>
            <p:cNvPr id="272" name="Group 1"/>
            <p:cNvGrpSpPr/>
            <p:nvPr/>
          </p:nvGrpSpPr>
          <p:grpSpPr>
            <a:xfrm>
              <a:off x="2206800" y="3430440"/>
              <a:ext cx="4832280" cy="2833920"/>
              <a:chOff x="2206800" y="3430440"/>
              <a:chExt cx="4832280" cy="2833920"/>
            </a:xfrm>
          </p:grpSpPr>
          <p:pic>
            <p:nvPicPr>
              <p:cNvPr id="273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206800" y="3430440"/>
                <a:ext cx="4832280" cy="283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6" descr=""/>
              <p:cNvPicPr/>
              <p:nvPr/>
            </p:nvPicPr>
            <p:blipFill>
              <a:blip r:embed="rId2"/>
              <a:srcRect l="35279" t="65982" r="21672" b="0"/>
              <a:stretch/>
            </p:blipFill>
            <p:spPr>
              <a:xfrm>
                <a:off x="3874320" y="4611240"/>
                <a:ext cx="2088000" cy="89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5" name="Straight Connector 4"/>
            <p:cNvSpPr/>
            <p:nvPr/>
          </p:nvSpPr>
          <p:spPr>
            <a:xfrm flipH="1" flipV="1">
              <a:off x="2953800" y="4788720"/>
              <a:ext cx="920160" cy="11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pening Data Fi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ata files are 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ehn’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class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to correct Chapter/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Data Fil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to your name on Leaddog into your Computer Folder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default name given to fil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IE and open Data File from the Start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D0DF44C4-FFD5-499B-B767-50367DCEADA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General Info: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95440" y="1600200"/>
            <a:ext cx="80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ptable Use Policies:  AUP – the rules you follow when using a comput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DSD has an AUP that all students should fol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ic Numbered Lists:  when you begin numbering a list, Word will continue the numbering for you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Home Ribbon, Paragraph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der: At top of page.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ouble Click to ad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Your name, Grade, Title,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ed for all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27A93ED3-A3B9-4CA4-9ED2-D93FA6934E35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in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4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4AC93502-D7B4-4B93-9203-49813BDAD624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06440" y="1600200"/>
            <a:ext cx="322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,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 218-35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# of p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1"/>
          <a:stretch/>
        </p:blipFill>
        <p:spPr>
          <a:xfrm>
            <a:off x="3738600" y="1628640"/>
            <a:ext cx="40561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3-07T05:33:42Z</dcterms:modified>
  <cp:revision>71</cp:revision>
  <dc:subject/>
  <dc:title>Slide 1</dc:title>
</cp:coreProperties>
</file>